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40F9-8ACE-411E-88A3-CF52900F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hoose to use a wiki to record the ideas of your Participant Teachers, set up the starting page of the wiki and add the URL to this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achers can choose to finish their gauging student needs presentation or the student support material from Module 6 if they are not yet complete—instead of starting a new facilitation resour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C9DF-863D-4C9B-B3FC-4D023470A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8CCC-8C51-4114-9932-A575D818E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E011-610A-49A9-961D-556641B66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E757-7D01-416B-A25D-0B77B372F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731C-535E-4C60-8648-792EA5519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F3B0-5534-41C3-95B9-D68AA2A4F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6140-F54C-436A-90F6-6974D11EE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266E-6501-40EE-A606-87019C1A3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CE63-48CE-4F9A-8717-C941DB972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53E2-41F4-4B79-9535-930E01B51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91B7-35C6-4FE1-8849-93A3811B9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2E37-6564-499E-9105-85FC090D1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F5D4-3872-42E2-9116-65D12C2666D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507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7: Facilitare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cu ajutor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ehnologie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3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resurselor de facili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 oră, 2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2375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capsularea şi legarea prin hyperlink a fişierelor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taţi care sunt diferenţele dintre încapsularea şi legarea prin hyperlink a unui fişi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rsaţi încapsularea unui fişi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356D-CAAE-45A6-ADC0-4CCCC5FD59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3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resurselor de facilit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Folosirea uneltelor de revizui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oftware de procesarea documentelor oferă elevilor libertatea de a edita şi revizui fără a retipări.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Folosind aceste unelte, elevii po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e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 comentar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ăstra un istoric al modificărilor făcu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videnţia porţiuni de text folosind diverse culor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alva versiun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Trimite prin e-mail un fişier edita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3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area materialelor de facilit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ndu-vă de ideile notate la paginil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7.09–7.11 ,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un document nou, o prezentare sau o resursă web pentru a sprijini facilitarea unităţii dumneavoastră—sau modificaţi materiale auxiliare deja existe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6B23-2D4B-48F4-8CA5-9BBB707603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7: Facilita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rea cu ajutor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4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a unui plan de implem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1: Studierea unor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exemple de Planuri de Implemen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udiaţi exemplele localizate în fişierul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dul 7, Activit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 4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lanificarea implementării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ţi întrebările de la pagina 7.15 pentru a planifica implementarea unităţii dumneavoastr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3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rearea planurilor de implemen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ţi şablonul planului de implementare disponibil în fişierul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Modul 7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ctivitatea 4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de pe CD Resurse Curriculum în crearea planului dumneavoastră de implement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7136-7CA7-4678-B0EE-1602BEB406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vizuirea planului de unitat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7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15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760" y="1919160"/>
            <a:ext cx="823752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eschideţi Planul de Unitate şi Lista de Verificare a Planului de Unitate din fişierul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plan_unitat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din directorul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Portofoliu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evizuiţi secţiunea Proceduri Instrucţionale pentru a include etape privind utilizarea materialuluide facilitare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ompletaţi Sumarul Unităţii de Învăţare pentru a includ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biecte ce vor fi acoperi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rierea principalelor concepte învăţ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 scurtă explicaţie a modului în care activităţile ajută elevii să răspundă la Întrebarea esenţială şi la Întrebările de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evedeţi restul Planului de Unitate şi completaţi toate zonele rămase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3940-3DAB-42BB-857A-F54616679E1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2400" y="272520"/>
            <a:ext cx="82105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ul 7: 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6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unităţii de învăţare. </a:t>
            </a:r>
            <a:r>
              <a:rPr b="0" i="1" lang="ro-RO" sz="2000" spc="-1" strike="noStrike">
                <a:solidFill>
                  <a:srgbClr val="0860a8"/>
                </a:solidFill>
                <a:latin typeface="Verdana"/>
              </a:rPr>
              <a:t>Viziune de ansamblu.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18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20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br>
              <a:rPr sz="1800"/>
            </a:br>
            <a:br>
              <a:rPr sz="18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2043000"/>
            <a:ext cx="8294760" cy="37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toevaluaţi Portofoliul Unităţii dumneavoastră folosin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ista de verificare a Planului de Uni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ubrica Portofoli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lista de verificare pentru a identifica elemente lipsă sau incomplete ale Planului de Unitate şi faceţi observaţii asupra completărilor sau modificărilor pe cale le mai aveţi de făc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bliniaţi secţiunile din Rubrica Portofoliului care descriu portofoliul  dumneavoastr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otaţi modificările pe care aţi dori să le faceţi la Portofoliul Unităţii în Lista de verificare a Planului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32D3-4A6D-46A2-B3F6-F48ED5F2EB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9440" y="272880"/>
            <a:ext cx="8223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7: 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7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20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umarul Modul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ncte cheie ale Modulului 7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stau la baza unei predări bune. Întrebările bune declanşează conexiuni semnificativecu ceea ce aduce la clasă din materiile anterioare şi din propria experienţă de viaţ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ortamentul profesorilor, climatul clasei şi strategiile de implementare a proiectelor sunt importante pentru crearea unei clase centrate pe elev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taliile unui Plan de Implementare identifică cerinţele necesare în afara clasei înainte, pe parcursul şi după unitate pentru a asigura succesul acestei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zvoltarea personală continuă este importantă pentru o dezvoltare susţinut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087640"/>
            <a:ext cx="8534160" cy="383040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5C81-DD58-4CC0-8771-5BB41379D44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2520"/>
            <a:ext cx="8224920" cy="11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7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7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76280" y="1724040"/>
            <a:ext cx="82375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registrarea călătoriei mele în bl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scutate în acest modul în blog-ul person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despre cum elementul central al acestui modul v-a ajutat la planificarea şi crearea unităţii dumneavoastr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fi facilitator într-o clasă centrată pe elev?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folosi tehnologia pentru a susţine practicile mele de instrui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impact vor avea cunoştinţele acumulate în acest modul asupra modului dumneavoastră de predare şi asupra învăţării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rieţi în blog părerile, învăţămintele cheie şi întrebările sau preocupările dumneavoastră în legătură cu modulul 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in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5AF7-B787-4320-8092-961B666D7E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2400" y="272520"/>
            <a:ext cx="82105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7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7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5760" y="1625760"/>
            <a:ext cx="823752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Înregistrarea călătoriei mele în blog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Continuar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rătaţi una din înregistrările din blog-ul dumneavoastră partenerului şi scrieţi un răspuns pe blog-ul acestui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cu partenerul dumneavoastră modul în care s-au schimbat înţelegerea şi cunoştinţele dumneavoastră în timp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Discutaţi cu întreg grupul experienţa reflecţiei asupra a ceea ce aţi învăţat de-a lungul timpulu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5407-4C34-490A-AE63-BD4C352C324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ul 7: Facilitarea cu ajutorul tehnologiei</a:t>
            </a:r>
            <a:br>
              <a:rPr sz="10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 în avans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5 minute)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vederea Portofoliului Unităţi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1880" y="1958760"/>
            <a:ext cx="3278160" cy="3755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65320" y="1999800"/>
            <a:ext cx="4833720" cy="23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observaţiile făcute după autoevaluarea Portofoliului de Unitate în Lista de verificare a Planului de Unitate împreună cu orice alte idei pe care le ave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inalizaţi componentele Portofoliului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4720" y="1947960"/>
            <a:ext cx="3218040" cy="37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5BD8-3953-4035-9C04-3ED9D7023C3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440" y="272880"/>
            <a:ext cx="827748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ul 7: Facilitarea cu ajutorul tehnologiei</a:t>
            </a:r>
            <a:br>
              <a:rPr sz="10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Localizarea de resurse internet pentru profesori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2285640"/>
            <a:ext cx="8307360" cy="33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flecţie asupra dezvoltării profesionale viitoare şi a resurselor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3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resurse pentru ocazii de dezvoltare profesional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ocalizarea de burse, tarife reduse sau gratuităţi pentru profesor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24-7.2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14400" indent="-45576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udiaţi site-uri care oferă burse, reduceri sau gratuităţi pentru personalul didact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D077-A18A-43A7-B2FF-E2A1D2E4A1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1520" y="520560"/>
            <a:ext cx="3916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prin proiec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ţarea bazată pe proiect ş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design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-ul unităţii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Plan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ficarea propriei unităţi de învăţa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Dezvoltarea întrebărilor de încadrarea a curriculumului şi crearea unei evaluări pentru a stabili nevoile elevulu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3: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Realizarea conexiunil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tilizarea Internet-ului pentru învăţare şi cercet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4: Crearea exemplelor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roiecte ale elevilor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(prezentare, publicaţie, wik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sau blog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5: Evaluarea proiectelor elevil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Crearea de evaluăr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formative şi sumativ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362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6: Planificarea pentru succesul elev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drumarea elevilor ş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1475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auto-direcţionarea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43480" y="849240"/>
            <a:ext cx="451944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60D4-8AE0-44C2-A9C3-00F068871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n continuare...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244520"/>
          <a:ext cx="8534160" cy="366552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 8 : Prezentarea Portofoliilor de Uni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6ae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 central</a:t>
                      </a: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Schimb de idei asupra experienţelor de învăţ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iscutarea modului de administrare a tehnologiei în sala de clas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rea documentelor de administr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gătirea prezentării Portofoliului propri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ferirea şi primirea de feedback relativ la Portofol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e asupr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nvăţării î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valuarea cursului 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l</a:t>
                      </a:r>
                      <a:r>
                        <a:rPr b="0" lang="en-US" sz="2000" spc="-1" strike="noStrike" baseline="30000">
                          <a:solidFill>
                            <a:srgbClr val="0860a8"/>
                          </a:solidFill>
                          <a:latin typeface="Verdana"/>
                        </a:rPr>
                        <a:t>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Tea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h Predarea în societatea cunoaşte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9010-4125-49CD-88D7-03DA70911A7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235584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0A44-DF66-45ED-A0E1-F78645797A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c2e86"/>
                </a:solidFill>
                <a:latin typeface="Verdana"/>
              </a:rPr>
              <a:t>Ce studiem acum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676440"/>
          <a:ext cx="9144000" cy="3201840"/>
        </p:xfrm>
        <a:graphic>
          <a:graphicData uri="http://schemas.openxmlformats.org/drawingml/2006/table">
            <a:tbl>
              <a:tblPr/>
              <a:tblGrid>
                <a:gridCol w="1890720"/>
                <a:gridCol w="7253280"/>
              </a:tblGrid>
              <a:tr h="42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l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: Facilitarea cu ajutorul tehnologi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Element central</a:t>
                      </a: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c2e86"/>
                          </a:solidFill>
                          <a:latin typeface="Times New Roman"/>
                        </a:rPr>
                        <a:t>Profesorul ca facilit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: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xplorarea strategiilor de interogare pentru a promova abilităţi de gândire de ordin îna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evaluarea facilitării unei clase centrate pe ele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materialelor de facilit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rea unui Plan de Implement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vizuirea Planului de un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Portofoliului şi revizuirea acestuia în urma evalu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e asupra învăţării în blog-ul personal; formularea unui răspuns pe blog-ul unui parten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ocalizarea de resurse Internet pentru profeso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3956040"/>
            <a:ext cx="9144000" cy="19731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rmAutofit fontScale="98000"/>
          </a:bodyPr>
          <a:p>
            <a:pPr lvl="1" marL="241200" indent="-23976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Întrebarea esenţial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5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c2e86"/>
                </a:solidFill>
                <a:latin typeface="Verdana"/>
              </a:rPr>
              <a:t>Cum poate fi utilizată tehnologia cel mai eficient pentru a sprijini şi evalua procesul de învăţare al elevilor?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Întrebările modul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um pot promova o clasă centrată pe elev?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1200" indent="-23976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um pot folosi tehnologia pentru a susţine practicile mele de instrui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B929-9E3C-43E0-B3E6-219BD6540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Ce vom stud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1427040"/>
            <a:ext cx="3892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Modulul 8: Prezentarea Portofoliulu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chimb de idei asupra învăţării prop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2A95-5C73-4C68-9A51-5378B6FBCD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71400" y="488880"/>
            <a:ext cx="82375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ucraţi în perechi şi schimbaţi idei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iscutaţi idei privind resursele de facilitare</a:t>
            </a:r>
            <a:br>
              <a:rPr sz="26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7.01-15 minut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5760" y="2133360"/>
            <a:ext cx="823752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8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taţi cu un partener ideile dumneavoastră relativ la materialele de facilit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scopurile materialelor de facilitare ?(Consultaţi propriile idei de la paginile 6.22-6.23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vor ajuta aceste materiale elevii pe parcursul unităţ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lemente de conţinut luaţi în considerare?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instrumente intenţionaţi să utilizaţi în acest modul pentru a crea sau a modifica materialele de facilitare? De ce consideraţi că acest instrument este cel mai adecvat pentru acest lucru?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întrebări mai aveţi cu privire la conţinut, design sau folosirea instrumentel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feedback doriţi de la colegii dumneavoastră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94F1-2F45-41E6-83D0-3438A89542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34596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ractici pedagogice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Folosirea întrebărilor pentru a promova gândirea de ordin superior şi pentru a implica elevii</a:t>
            </a:r>
            <a:br>
              <a:rPr sz="2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-15 minu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2201400"/>
            <a:ext cx="823752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0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Folosiţi timpul acordat pentru a discuta modalităţi în care puteţi folosi diferite tehnici de chestionare pentru a implica elevii şi pentru a-i ajuta să gândească mai profund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metode se pot folosi pentru a integra Întrebarea esenţială şi Întrebările de unitate în clasă şi în proiectele elevil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metode se pot folosi pentru a integra folosirea întrebărilor în clasă şi în proiectele elevil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um puteţi forma la elevi aptitudinile necesare unei gândiri de ordin superior când creează proiecte?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e tipuri de întrebări, instantanee şi cadre puteţi utiliza pentru a încuraja elevii să gândească în profunzim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C13F-7220-4630-AABA-F740BA136A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5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Folosirea tehnologiei pentru a susţine facilitarea</a:t>
            </a:r>
            <a:br>
              <a:rPr sz="26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5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400" y="1933200"/>
            <a:ext cx="83833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1: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Concentrarea pe facilita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4–7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Faceţi o autoevaluare rapidă a facilitării dumneavoastră la clas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dăugaţi idei cu privire la modul în care tehnologia vă poate ajuta să deveniţi un facilitator mai bun şi clasa dumneavoastră mai centrată pe ele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Cum puteţi crea un mediu şi furniza cadrul corespunzător pentru a forma elevi cu direcţie proprie şi pentru a fi un bum facilitat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9005-E349-4217-B46A-1F50ABAD7A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Folosirea tehnologiei pentru a susţine facilitare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5760" y="1936800"/>
            <a:ext cx="823752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Modalităţi de a creşte productivitatea profesorului cu ajutorul tehnologie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6–7.0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ecizaţi zonele dumneavoastră de interes pentru a vă ajuta să vă îmbunătăţiţi productivitatea şi activitate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ABC4-4BC7-4582-B29C-FCB654D296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ul 7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Facilitarea cu ajutorul tehnologie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itatea 2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Proiectarea resurselor de facili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760" y="1863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Studierea unor resurse de facili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izualizaţi exemplele de prezentări, publicaţii şi resurse web din fişierul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Modul 2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ctivitatea 2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pe pe CD Resurse Curriculum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lanificarea resurselor de facilitare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7.08–7.1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edeţi ideile şi domeniile de interes de la pagin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22–6.23,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şi apoi planificaţi o prezentare, document, fişă sau resursă web care să vă crească productivitatea sau care vă susţine practica de instrui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ificaţi resursele de facilitare la paginil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7.09–7.11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O fişă este disponibilă în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 7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e pe CD Resurse Curriculum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modifica o resursă de facilitare deja existentă sau să creaţi una nou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C9F9-AF81-44B2-8DDE-0359D47921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dalina</cp:lastModifiedBy>
  <cp:lastPrinted>2006-11-14T00:45:04Z</cp:lastPrinted>
  <dcterms:modified xsi:type="dcterms:W3CDTF">2007-08-21T02:15:25Z</dcterms:modified>
  <cp:revision>153</cp:revision>
  <dc:subject/>
  <dc:title>Presentation Title Goes Here</dc:title>
</cp:coreProperties>
</file>